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DBC-CF1F-4066-A326-4B59626B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095-3950-4B85-ABF4-3AEB612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F88D1-4FFA-4B26-9D45-1AFE99D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69CAD-0789-4365-89EC-D47D966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B9491-C0D2-46C9-86C0-8D1A95AE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8D99-4F15-4156-A407-6E11AD1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7ED6-F6F4-4906-8FA9-2B37689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F7DB-98EC-4C5C-9CDA-E73D08F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17CCB-825F-4E9A-9B7C-1F93785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8C291-95DB-4533-855D-4D523F1D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D68B-EE29-462C-80CB-C0AFBED7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1B719-A092-4C6B-8717-0CD0B16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80E-84A7-4F1D-B61D-6E3C609F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F8911-F579-4B90-A64F-8D16BE0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3D60A-6AAA-4A46-ABED-77F50DA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E07E-9933-482A-BA56-BFB6699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F19DF-45FD-44A6-97C8-5B7C1A2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63C96-A10B-4E1E-8B58-088C69C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D80D2-2028-45C5-8CC3-A14AE13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B7E1-7679-4825-926F-4DED7C7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D56E4-2FDD-4566-A63D-0FB55DC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FD2CF-AEF2-4719-90FC-29F2426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6332A-53E1-45E8-A2AE-1C42ED04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676-4607-43A7-89C5-65236841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7A5FE-6B7F-4089-83D7-57D27309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0D6C-59F9-427F-B15A-D5CD2DE4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5F909-AB50-438D-9247-EC12879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08990-FF14-43F2-A07B-9AA38391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7F245-1624-4C54-8130-CE71BEB2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A969-4BFF-47C4-9746-B89B38F5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0AA2-9768-4591-8278-D9B3DD7C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CE993-2A0D-46FB-9AD5-590BD08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71198-89E0-468A-93A0-01FE7D3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57EB5-3E0C-41C7-910F-B285757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F08-4E51-43CA-A203-9EF228BE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8023D-1ACC-4BC1-A678-B2F54211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41088-282D-44BC-8445-12B2E9CC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5B1C-6FCB-42D5-BDA9-B95BD454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065CA-E9CE-41F4-8667-C54E8CD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F3EAC-85ED-4FDC-922C-847E34B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71F0-64D7-44A6-AC90-F978FCF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4AAD-070E-4D6E-90C2-D52AFC8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F03AA-3D10-44E3-B831-4310B35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8315E-06E9-4907-8C8A-BF9D9F26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A0A4F-13F4-449B-A4B5-8B8DD4E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D2E-CB5E-4532-92C0-6CFF91B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1F0FD-BF89-43D6-99E9-FB71E13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32913-EA75-46B3-8443-47AE398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6E3FD-D8D7-4550-AAB8-E29442C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6ACB0-BA73-4689-9966-878A9B37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6BA8D-FFAB-4C81-A8A1-B868715A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48E-4317-4013-A061-A8E9916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98D-F735-4571-AB8E-B08CC059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6134-AA72-46DA-8015-CE40941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76D-AFB3-4B34-8725-10B8236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E41-7155-4767-AD0D-1EA3BD1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8C7-4095-4B7B-9A1E-390E3528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8F7B-0156-4684-99E6-AF71D0D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DD4-23AC-4BEE-A560-709BBE1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B912-79A3-49FE-9EF6-D9A3BFE5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0856-91AC-4437-905F-DA0FFBF5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0515-67DB-4F2C-8BDE-4246A206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6C37-2F59-46E7-982F-C0D25F11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FB88-B9AF-4C1D-82CF-08EE220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BA7B-3B39-42B7-8421-E2E45FE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EA8B-2B44-4DC7-8F76-12E147C9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7121-BDED-4526-B5E9-3D05D2F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673-ECD3-44B7-83A7-1C61811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EABA-FAF3-46DA-859D-DEE7BFC0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0346-33C7-4EA7-B786-CC554EE5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8313-3427-4590-8E5C-D677DA25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4D95-D10C-4561-BA57-FFC013A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E873-AAC6-408E-80B9-CE86C48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2BFD-0F74-4023-B045-9D45C30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5235-F0E8-4938-890B-FDA2C497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130E-C6AF-425F-B394-2BAC7C52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82D4-090C-416C-8DBE-10FC0873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EFC7-96BC-40BA-86AA-EBFAA56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833-220D-469D-A5D3-83D46C32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7036-36C5-4C67-99A8-088E5716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49BB-42B6-426F-92BC-B6F60D5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90E3-A821-44EF-AAA2-1CA1369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95FC-51B6-4034-9703-2C8FB23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C26B-499F-4E4E-BCC7-4DDA69D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7D54-4134-4712-A2D3-EBB945E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8FDE-1D2A-43C9-A66C-8AF3331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FCEC-A7DA-4AD9-A545-ED73F22F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C6DF-A4BD-4104-AD1A-E750F86D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1EF0-DA1A-411C-BE14-982C44A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92C-1C5F-4D96-B4BC-97C1655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9DAC-884C-47A2-AA29-5A840DE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1428-AEA5-4FCB-8664-A01B28B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4435-7842-4F0E-84CA-1591417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6218-D45E-49D4-8D45-8D83549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2215-1C3A-41DA-AE69-8EA4E6A9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896D-4D39-421A-B286-2ACAE82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369E-8DB0-4DD8-A9A7-80A7F21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C5AD-C9CF-4B11-9AD2-EEEDA82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1C3B-AC87-496F-92DE-C3087A6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F5958-7F09-45DA-AA1B-9D1CD9B6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017-C355-4A71-A622-19A4A1B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B64F-C0E8-4E11-9D06-1822FAE0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990B-25B8-408A-82A9-EC64B4F8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3260-6FDD-4533-8C17-0CCFD1D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D8F8-C7F5-49EA-BB08-441FD2A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9440-5845-481B-AA4D-F1DC931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2DB8-7A40-4798-8254-A67426D2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F86C-C3BF-4750-8682-5C575B53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0CCF-2F31-4B61-A354-038FC91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2032-96DC-4214-AE09-92725B3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6092-4977-428C-98AC-4D06CA4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7FF-E046-4A6D-BB46-B132F03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2E41-617E-427D-A49D-53454FC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9104-CD25-4127-B24C-4855D9A0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C06E-08A7-48B9-89ED-EF98A50B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EA29-CC5A-45C3-8513-7BD0F6D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2C2AF-8914-457B-8CBE-279BF78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D73F0-A4E9-479D-B870-FB04A4E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D9FE-1F84-4D7B-A07D-7416A44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BB5B-D89A-4E02-BD2C-DF698689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43C4-B1A0-46BB-9DB7-F62CA353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577D-BE5E-4504-81E9-916FBDD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80E-0752-4F53-9CB9-04D4D5D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3EF1-6FC8-40B8-810E-8CB4793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CA77-2AFD-4CE0-AEC7-491690B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B923-9053-4403-ACD7-29E112BC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73D3-36DA-4A4F-9E5D-13AC457E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9854-C7FA-4C51-B515-B64307FB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F05A-524E-4E83-8118-E3CB286D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1EFC-3AF9-4157-B475-3233205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6D5C-C5AB-454C-B489-889385FB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29D6-3484-4ABF-9BAD-E3797A2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32B7-9C76-4E6B-B63F-580D5983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897-9180-4F6F-BA79-7EC9413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B36F-CEE3-4F56-90D3-1DCAD93B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3EFC5-1A73-420A-8554-95CF37A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85C7E-92E7-45CD-BDE7-DAAC50E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5A413-FF50-4798-A586-3BF76E6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5DE9-A486-400B-BFF8-17FB417E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147D-C885-4DB2-B03E-F11D491B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81A7-6314-4A31-A6F7-22E04EB4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F2B66-EE75-4435-9286-8E8B5AFE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6ACB-AD63-4F99-93ED-8F2FEE9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5DBB-CF15-44AF-8743-7ADD231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60F-0AC8-4114-9F85-F7A6CE4FC49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8C6-22FB-43D8-898F-1670110210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D04-0C2F-4508-952A-2A4516FBE9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71C-0FD6-4709-AD0B-46A30DABC3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46C-2B17-446B-B767-5F37821BDEE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601-FCE7-4D84-AE1C-BB8DBEB8DA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AF78-E399-4D26-8832-E3AA783F7B7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031-7B92-494A-B43D-3397A521F15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AB6-3062-48CC-89D9-BF8D723855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AE02-4EEE-458A-8421-EF01948643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8FD-4BB3-4477-9C3B-BF95CE09647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887-9E6E-4D20-8C7B-C1A83CB160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– uzrok promj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Sila kao vektor</a:t>
            </a: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642960" y="1571760"/>
            <a:ext cx="42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la je vektorska velič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028880" y="3657600"/>
            <a:ext cx="681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djeluje du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vca djelov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mjer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e prikazano je streli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vatište s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početna točka u kojoj djeluje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0390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31920" y="1676520"/>
            <a:ext cx="6130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znaka za silu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 su učinc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međudjelovanja na tijel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djeluju između tijela u dodi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djeluju između udaljen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sila vektorska veliči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mogu biti i privlačne i odboj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Slika 1" descr=""/>
          <p:cNvPicPr/>
          <p:nvPr/>
        </p:nvPicPr>
        <p:blipFill>
          <a:blip r:embed="rId1"/>
          <a:stretch/>
        </p:blipFill>
        <p:spPr>
          <a:xfrm>
            <a:off x="298440" y="93024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će li se tijelo pokrenuti samo od se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ćeš pomaknuti klupu ili stol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lopti promijeniti smjer giban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tijelu promijeniti oblik? Ka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2863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304920" y="1447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pokreće tij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881280" y="4724280"/>
            <a:ext cx="76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ćeš pomaknuti knjigu sa st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da knjigu ispustimo iz ruke zašto ona padne na st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809880" cy="2278080"/>
          </a:xfrm>
          <a:prstGeom prst="rect">
            <a:avLst/>
          </a:prstGeom>
          <a:ln w="0">
            <a:noFill/>
          </a:ln>
        </p:spPr>
      </p:pic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0"/>
          <p:cNvSpPr/>
          <p:nvPr/>
        </p:nvSpPr>
        <p:spPr>
          <a:xfrm>
            <a:off x="547920" y="1752480"/>
            <a:ext cx="81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je fizikalna veličina kojom opisujemo djelovanje jed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na drugo tij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znaka za silu j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10"/>
          <p:cNvSpPr/>
          <p:nvPr/>
        </p:nvSpPr>
        <p:spPr>
          <a:xfrm>
            <a:off x="459360" y="1447920"/>
            <a:ext cx="64580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  <a:ea typeface="Arial"/>
              </a:rPr>
              <a:t>Učinci djelovanja sile na tijelo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oblik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stanja gib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smjera gib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mbinacija navedenih učina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0"/>
          <p:cNvSpPr/>
          <p:nvPr/>
        </p:nvSpPr>
        <p:spPr>
          <a:xfrm>
            <a:off x="485640" y="1447920"/>
            <a:ext cx="565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ko su tijela u neposrednu dodi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7254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Međudjelovanje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7013160" y="5257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is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517480" y="5257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la tr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4575240" y="52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astič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308160" y="52578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išić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4" descr="trenje"/>
          <p:cNvPicPr/>
          <p:nvPr/>
        </p:nvPicPr>
        <p:blipFill>
          <a:blip r:embed="rId1"/>
          <a:stretch/>
        </p:blipFill>
        <p:spPr>
          <a:xfrm>
            <a:off x="2514600" y="3352680"/>
            <a:ext cx="1828800" cy="1602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5" descr="elastična sila"/>
          <p:cNvPicPr/>
          <p:nvPr/>
        </p:nvPicPr>
        <p:blipFill>
          <a:blip r:embed="rId2"/>
          <a:stretch/>
        </p:blipFill>
        <p:spPr>
          <a:xfrm>
            <a:off x="4495680" y="3648240"/>
            <a:ext cx="2057400" cy="132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6" descr="potisna"/>
          <p:cNvPicPr/>
          <p:nvPr/>
        </p:nvPicPr>
        <p:blipFill>
          <a:blip r:embed="rId3"/>
          <a:stretch/>
        </p:blipFill>
        <p:spPr>
          <a:xfrm>
            <a:off x="6934320" y="2362320"/>
            <a:ext cx="1811160" cy="265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sila1"/>
          <p:cNvPicPr/>
          <p:nvPr/>
        </p:nvPicPr>
        <p:blipFill>
          <a:blip r:embed="rId4"/>
          <a:stretch/>
        </p:blipFill>
        <p:spPr>
          <a:xfrm>
            <a:off x="228600" y="2666880"/>
            <a:ext cx="1855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0"/>
          <p:cNvSpPr/>
          <p:nvPr/>
        </p:nvSpPr>
        <p:spPr>
          <a:xfrm>
            <a:off x="492840" y="1447920"/>
            <a:ext cx="730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d su tijela u dodiru i kad su tijela udal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254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Međudjelovanje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901800" y="5446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ektrič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660840" y="5410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gnetsk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555600" y="5410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la te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2" descr="magnetska sila"/>
          <p:cNvPicPr/>
          <p:nvPr/>
        </p:nvPicPr>
        <p:blipFill>
          <a:blip r:embed="rId1"/>
          <a:stretch/>
        </p:blipFill>
        <p:spPr>
          <a:xfrm>
            <a:off x="3505320" y="33526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slobodan pad"/>
          <p:cNvPicPr/>
          <p:nvPr/>
        </p:nvPicPr>
        <p:blipFill>
          <a:blip r:embed="rId2"/>
          <a:stretch/>
        </p:blipFill>
        <p:spPr>
          <a:xfrm>
            <a:off x="6248520" y="3352680"/>
            <a:ext cx="2412720" cy="1611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4" descr="elektricna sila"/>
          <p:cNvPicPr/>
          <p:nvPr/>
        </p:nvPicPr>
        <p:blipFill>
          <a:blip r:embed="rId3"/>
          <a:stretch/>
        </p:blipFill>
        <p:spPr>
          <a:xfrm>
            <a:off x="457200" y="3330720"/>
            <a:ext cx="243828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tsko međudjel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400760" y="5334120"/>
            <a:ext cx="6310080" cy="64260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tska sila može  biti privlačna i odbo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228600" y="1981080"/>
            <a:ext cx="868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kada magnet približimo spajalicam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048120" cy="2108160"/>
          </a:xfrm>
          <a:prstGeom prst="rect">
            <a:avLst/>
          </a:prstGeom>
          <a:ln w="0">
            <a:noFill/>
          </a:ln>
        </p:spPr>
      </p:pic>
      <p:pic>
        <p:nvPicPr>
          <p:cNvPr id="536" name="Slika 6" descr=""/>
          <p:cNvPicPr/>
          <p:nvPr/>
        </p:nvPicPr>
        <p:blipFill>
          <a:blip r:embed="rId2"/>
          <a:stretch/>
        </p:blipFill>
        <p:spPr>
          <a:xfrm>
            <a:off x="380880" y="74304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ktrično međudjel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650160" y="5486400"/>
            <a:ext cx="7950240" cy="64260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ktrična sila među tijelima može biti privlačna i odbo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404800" cy="21718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228600" y="1981080"/>
            <a:ext cx="8686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se baloni nakon trljanja vunenom krpicom odmakn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dan od drugog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Slika 1" descr=""/>
          <p:cNvPicPr/>
          <p:nvPr/>
        </p:nvPicPr>
        <p:blipFill>
          <a:blip r:embed="rId2"/>
          <a:stretch/>
        </p:blipFill>
        <p:spPr>
          <a:xfrm>
            <a:off x="152280" y="91908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25:55Z</dcterms:modified>
  <cp:revision>21</cp:revision>
  <dc:subject/>
  <dc:title>Slide 1</dc:title>
</cp:coreProperties>
</file>